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11.png" ContentType="image/png"/>
  <Override PartName="/ppt/media/image6.png" ContentType="image/png"/>
  <Override PartName="/ppt/media/image5.wmf" ContentType="image/x-wmf"/>
  <Override PartName="/ppt/media/image4.png" ContentType="image/png"/>
  <Override PartName="/ppt/media/image3.jpeg" ContentType="image/jpeg"/>
  <Override PartName="/ppt/media/image24.jpeg" ContentType="image/jpeg"/>
  <Override PartName="/ppt/media/image26.wmf" ContentType="image/x-wmf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A0EC-A7C1-4E1E-91B8-2B77F4EE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9F1-E309-4637-AD2E-30CB2D6A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F04D-1ADA-4A8E-838A-DF37F5B8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8B5-3228-4970-AC71-5CE9B0B5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7C85-B1F9-4788-938E-7953C4E8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A415-6E45-431D-B432-BF71C1D0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75B6-EF98-4389-8288-08852D34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6C9E-2EC4-4350-B319-84D0D6D5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66FC-2330-4691-9B99-4B4EAA02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A89E-478D-4B31-BFA0-9AF6194B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91B8-4EF7-4AC1-B876-6985B1A4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5E18-9908-4564-A741-9CA8F16E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9CEB-48EB-4741-AAAF-8104B73C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3C02-5FE7-4F76-ADBD-84C643A1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B549-A187-4DA2-A8C3-7790D9AD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0BDC-59D6-4E1E-B209-498237FE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3BE1-1364-42CF-9EA1-E078BED7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48B-575C-48C2-8A77-79C9194B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AFB-08F0-4D00-9FA0-AE170D4D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A484-6F95-4117-B7F3-ACEC5D9C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F8D-C94D-4C55-A607-17DDBD41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708-4F6B-46D7-A4B9-2F247158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307B-B9A6-4D4C-9B50-0E2B1629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5188-E537-426C-BC72-C5B2E357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1713-580E-4383-9DA5-7BE8C700AC22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8E37-6402-450D-9A77-78E70A55C6DE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6.xml"/><Relationship Id="rId7" Type="http://schemas.openxmlformats.org/officeDocument/2006/relationships/slide" Target="slide4.xml"/><Relationship Id="rId8" Type="http://schemas.openxmlformats.org/officeDocument/2006/relationships/slide" Target="slide3.xml"/><Relationship Id="rId9" Type="http://schemas.openxmlformats.org/officeDocument/2006/relationships/slide" Target="slide2.xml"/><Relationship Id="rId10" Type="http://schemas.openxmlformats.org/officeDocument/2006/relationships/slide" Target="slide5.xm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20840" y="781200"/>
            <a:ext cx="8242200" cy="2054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85920" y="257184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La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3" action="ppaction://hlinksldjump"/>
              </a:rPr>
              <a:t>Govern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4" action="ppaction://hlinksldjump"/>
              </a:rPr>
              <a:t>Bil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5" action="ppaction://hlinksldjump"/>
              </a:rPr>
              <a:t>Sen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6" action="ppaction://hlinksldjump"/>
              </a:rPr>
              <a:t>Constit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7" action="ppaction://hlinksldjump"/>
              </a:rPr>
              <a:t>Democrac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8" action="ppaction://hlinksldjump"/>
              </a:rPr>
              <a:t>Royal assent         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9" action="ppaction://hlinksldjump"/>
              </a:rPr>
              <a:t>Budget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                 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10" action="ppaction://hlinksldjump"/>
              </a:rPr>
              <a:t>CREDI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2" descr="Kevin Rudd"/>
          <p:cNvPicPr/>
          <p:nvPr/>
        </p:nvPicPr>
        <p:blipFill>
          <a:blip r:embed="rId11"/>
          <a:stretch/>
        </p:blipFill>
        <p:spPr>
          <a:xfrm>
            <a:off x="3214800" y="0"/>
            <a:ext cx="2143080" cy="1785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95959"/>
                </a:solidFill>
                <a:latin typeface="Book Antiqua"/>
              </a:rPr>
              <a:t>A rule or a set of rules recognised by the public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                   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N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4" descr="C:\Program Files\Microsoft Office\Media\CntCD1\ClipArt7\j0300864.wmf"/>
          <p:cNvPicPr/>
          <p:nvPr/>
        </p:nvPicPr>
        <p:blipFill>
          <a:blip r:embed="rId2"/>
          <a:stretch/>
        </p:blipFill>
        <p:spPr>
          <a:xfrm>
            <a:off x="4357800" y="2857680"/>
            <a:ext cx="3876480" cy="26431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95959"/>
                </a:solidFill>
                <a:latin typeface="Book Antiqua"/>
              </a:rPr>
              <a:t>A budget is how much money the government expects to collect in the coming year how they wish to spend i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           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 Men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4" descr="C:\Program Files\Microsoft Office\Media\CntCD1\ClipArt1\j0195346.wmf"/>
          <p:cNvPicPr/>
          <p:nvPr/>
        </p:nvPicPr>
        <p:blipFill>
          <a:blip r:embed="rId3"/>
          <a:stretch/>
        </p:blipFill>
        <p:spPr>
          <a:xfrm>
            <a:off x="5500800" y="3301920"/>
            <a:ext cx="3357360" cy="312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Book Antiqua"/>
              </a:rPr>
              <a:t>A royal assent is the signing of a bill by the queens representativ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                          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n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4" descr="C:\Program Files\Microsoft Office\Media\CntCD1\ClipArt6\j0294022.wmf"/>
          <p:cNvPicPr/>
          <p:nvPr/>
        </p:nvPicPr>
        <p:blipFill>
          <a:blip r:embed="rId2"/>
          <a:stretch/>
        </p:blipFill>
        <p:spPr>
          <a:xfrm>
            <a:off x="6786720" y="2868480"/>
            <a:ext cx="1676160" cy="327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Democracy is the idea that every one has equ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righ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                   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n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7" descr="C:\Program Files\Microsoft Office\Media\CntCD1\ClipArt8\j0345541.wmf"/>
          <p:cNvPicPr/>
          <p:nvPr/>
        </p:nvPicPr>
        <p:blipFill>
          <a:blip r:embed="rId2"/>
          <a:stretch/>
        </p:blipFill>
        <p:spPr>
          <a:xfrm>
            <a:off x="6897600" y="3747960"/>
            <a:ext cx="1417680" cy="1773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d:\Users\KyeH.STAWELL-PS\Desktop\mr.awsm!\Untitled 71.jpg"/>
          <p:cNvPicPr/>
          <p:nvPr/>
        </p:nvPicPr>
        <p:blipFill>
          <a:blip r:embed="rId3"/>
          <a:stretch/>
        </p:blipFill>
        <p:spPr>
          <a:xfrm>
            <a:off x="1523880" y="3000240"/>
            <a:ext cx="3619800" cy="2714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d:\Users\KyeH.STAWELL-PS\Desktop\mr.awsm!\awsm symbol!.jpg"/>
          <p:cNvPicPr/>
          <p:nvPr/>
        </p:nvPicPr>
        <p:blipFill>
          <a:blip r:embed="rId2"/>
          <a:stretch/>
        </p:blipFill>
        <p:spPr>
          <a:xfrm>
            <a:off x="2133720" y="21258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285840" y="47149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See Y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95959"/>
                </a:solidFill>
                <a:latin typeface="Book Antiqua"/>
              </a:rPr>
              <a:t>A constitution is a set of rules by which a country is ru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                       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n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10" descr="C:\Program Files\Microsoft Office\Media\CntCD1\Photo2\j0316715.jpg"/>
          <p:cNvPicPr/>
          <p:nvPr/>
        </p:nvPicPr>
        <p:blipFill>
          <a:blip r:embed="rId2"/>
          <a:stretch/>
        </p:blipFill>
        <p:spPr>
          <a:xfrm>
            <a:off x="5840280" y="4416480"/>
            <a:ext cx="2660760" cy="1760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d:\Users\KyeH.STAWELL-PS\AppData\Local\Microsoft\Windows\Temporary Internet Files\Content.IE5\MVO1OU00\MCj04076000000[1].wmf"/>
          <p:cNvPicPr/>
          <p:nvPr/>
        </p:nvPicPr>
        <p:blipFill>
          <a:blip r:embed="rId3"/>
          <a:stretch/>
        </p:blipFill>
        <p:spPr>
          <a:xfrm>
            <a:off x="5929200" y="2286000"/>
            <a:ext cx="2230560" cy="2193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95959"/>
                </a:solidFill>
                <a:latin typeface="Book Antiqua"/>
              </a:rPr>
              <a:t>To rule or have control over peopl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                      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n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4" descr="C:\Program Files\Microsoft Office\Media\CntCD1\ClipArt1\j0078776.wmf"/>
          <p:cNvPicPr/>
          <p:nvPr/>
        </p:nvPicPr>
        <p:blipFill>
          <a:blip r:embed="rId2"/>
          <a:stretch/>
        </p:blipFill>
        <p:spPr>
          <a:xfrm>
            <a:off x="4879800" y="2860560"/>
            <a:ext cx="3124440" cy="2301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Book Antiqua"/>
              </a:rPr>
              <a:t>A proposal for a new law or to change or modify an already existing law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                   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n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4" descr="C:\Program Files\Microsoft Office\Media\CntCD1\ClipArt2\j0229705.wmf"/>
          <p:cNvPicPr/>
          <p:nvPr/>
        </p:nvPicPr>
        <p:blipFill>
          <a:blip r:embed="rId2"/>
          <a:stretch/>
        </p:blipFill>
        <p:spPr>
          <a:xfrm>
            <a:off x="6000840" y="2786040"/>
            <a:ext cx="2031840" cy="1695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Program Files\Microsoft Office\Media\CntCD1\ClipArt2\j0231084.wmf"/>
          <p:cNvPicPr/>
          <p:nvPr/>
        </p:nvPicPr>
        <p:blipFill>
          <a:blip r:embed="rId3"/>
          <a:stretch/>
        </p:blipFill>
        <p:spPr>
          <a:xfrm>
            <a:off x="571680" y="3049560"/>
            <a:ext cx="36590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Program Files\Microsoft Office\Media\CntCD1\ClipArt7\j0339256.wmf"/>
          <p:cNvPicPr/>
          <p:nvPr/>
        </p:nvPicPr>
        <p:blipFill>
          <a:blip r:embed="rId4"/>
          <a:stretch/>
        </p:blipFill>
        <p:spPr>
          <a:xfrm>
            <a:off x="5127480" y="5052960"/>
            <a:ext cx="1801800" cy="1805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95959"/>
                </a:solidFill>
                <a:latin typeface="Book Antiqua"/>
              </a:rPr>
              <a:t>The senate is an elected legislative body which is one of the two federal houses of the Australian parliamen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                                                                 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n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2" name="Picture 6" descr="d:\Users\KyeH.STAWELL-PS\AppData\Local\Microsoft\Windows\Temporary Internet Files\Content.IE5\N07SHP1U\MCj04349310000[1].wmf"/>
          <p:cNvPicPr/>
          <p:nvPr/>
        </p:nvPicPr>
        <p:blipFill>
          <a:blip r:embed="rId2"/>
          <a:stretch/>
        </p:blipFill>
        <p:spPr>
          <a:xfrm>
            <a:off x="2500200" y="3071880"/>
            <a:ext cx="6357960" cy="2786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d:\Users\KyeH.STAWELL-PS\AppData\Local\Microsoft\Windows\Temporary Internet Files\Content.IE5\N07SHP1U\MPj03626080000[1].jpg"/>
          <p:cNvPicPr/>
          <p:nvPr/>
        </p:nvPicPr>
        <p:blipFill>
          <a:blip r:embed="rId3"/>
          <a:stretch/>
        </p:blipFill>
        <p:spPr>
          <a:xfrm>
            <a:off x="5643720" y="3571920"/>
            <a:ext cx="847440" cy="285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2:26:03Z</dcterms:created>
  <dc:creator>Education</dc:creator>
  <dc:description/>
  <dc:language>en-US</dc:language>
  <cp:lastModifiedBy>Education</cp:lastModifiedBy>
  <dcterms:modified xsi:type="dcterms:W3CDTF">2009-10-27T23:24:41Z</dcterms:modified>
  <cp:revision>15</cp:revision>
  <dc:subject/>
  <dc:title>Government</dc:title>
</cp:coreProperties>
</file>